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CD6C-CBEE-42C1-B2CF-F2E7A3F61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D39E-DECC-419B-A619-4A0548709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5ADE-C3E8-4C5A-BCFA-AD9ABAD37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9261-21A6-44FE-ACB6-1A645774D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B32FE-1353-402B-A2EF-256B9B3FA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33A27-7094-4CE8-8787-2034AE6E5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EA4A1-84B1-40D8-A531-0F2AD942F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8D603-6CA1-48F2-9465-7085C1DBA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F3C52-0B00-4819-910D-CE68F546A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13472-5CF5-4A94-A591-2AFAA2CF8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6EBA1-27A9-481E-AC7B-4C6F61E4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DEEF-F7D3-433D-8DCB-E95CC7358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47A76-10DC-4F3B-9F30-CD1090975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80BD3-FF81-4968-8AEE-B0A9B9A5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10C85-D473-4C61-BD62-862F92578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D78BC-E4A7-45D0-8129-973E35355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2D89F-E069-4E64-B6F7-E313A7EDD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629F-B828-442F-87FD-A6A3AF750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6061-9781-47F7-9093-2937BE88F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6A19-24EE-42AA-B013-1A996941A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5D26-44AB-46BE-BF77-7F105C1E3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12F3-5783-4CD4-9027-053641E9D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1532-8D6F-4CB2-872B-8EFB0D944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39C9-A9C9-40DE-BE08-811F2F188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26902-096D-4E12-8E75-3057D4C3233E}" type="slidenum">
              <a:rPr b="0" lang="ar-LB" sz="14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ADA45-C6F3-4DED-9FF7-B54638375CA4}" type="slidenum">
              <a:rPr b="0" lang="ar-LB" sz="14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763640" y="4724280"/>
            <a:ext cx="7380360" cy="213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600" spc="-1" strike="noStrike">
                <a:solidFill>
                  <a:srgbClr val="ffffff"/>
                </a:solidFill>
                <a:latin typeface="Tahoma"/>
                <a:cs typeface="????Boutros Rokaa"/>
              </a:rPr>
              <a:t>أعطني يا رب قلبك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276720" y="0"/>
            <a:ext cx="586728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َعْطِنِي يَا رَبُّ قَلْبَكَ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هَبْنِي أَنْ أَخْتَارَ حُبَّّكَ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يَا قَلْبَ يَسُوعَ إِلَه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َرْغَبُ أَنْ أَتْبَعَكَ.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820960" y="0"/>
            <a:ext cx="62881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قَلْبُكَ يَا رَبُّ رَاحَت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هُوَ غِنَايَ هُوَ عُذُوبَت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إِجْذِبْنِي إِلَيْكَ إِلَه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َحْدَكَ أَنْتَ سَعَادَتِي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627280" y="0"/>
            <a:ext cx="65167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َجْهُكَ يَا رَبُّ مَوْطِن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قَلْبُكَ يَا رَبُّ مَسْكِن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هَلُمَّ وَوَحِّدْنِي بكَ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َاجْعَلْنِي أَحْيَا لأَجْلِكَ.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276720" y="0"/>
            <a:ext cx="586728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َعْطِنِي يَا رَبُّ قَلْبَكَ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هَبْنِي أَنْ أَخْتَارَ حُبَّّكَ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يَا قَلْبَ يَسُوعَ إِلَه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َرْغَبُ أَنْ أَتْبَعَكَ.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627280" y="0"/>
            <a:ext cx="65167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َجْهُكَ يَا رَبُّ مَوْطِن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قَلْبُكَ يَا رَبُّ مَسْكِن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هَلُمَّ وَوَحِّدْنِي بكَ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َاجْعَلْنِي أَحْيَا لأَجْلِكَ.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76720" y="0"/>
            <a:ext cx="586728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َعْطِنِي يَا رَبُّ قَلْبَكَ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هَبْنِي أَنْ أَخْتَارَ حُبَّّكَ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يَا قَلْبَ يَسُوعَ إِلَه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َرْغَبُ أَنْ أَتْبَعَكَ.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0T06:33:39Z</dcterms:created>
  <dc:creator>Charbel Azar</dc:creator>
  <dc:description/>
  <dc:language>en-US</dc:language>
  <cp:lastModifiedBy>Charbel Azar</cp:lastModifiedBy>
  <dcterms:modified xsi:type="dcterms:W3CDTF">2006-03-07T21:38:22Z</dcterms:modified>
  <cp:revision>20</cp:revision>
  <dc:subject/>
  <dc:title>Slide 1</dc:title>
</cp:coreProperties>
</file>